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BCB-0748-431A-BF26-D7DB363E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F29-C0A0-4668-93C9-D8DEBB08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8C9-A124-444E-B236-E581A991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F437-413E-4772-B98F-D0EA27C7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6C48-07C8-46F9-9F8E-CDC67CE5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E155-E3B8-4AFC-840F-C53E65D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9F4E-01BB-40AF-BF51-700CEDB8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CFF6-9F3B-457A-BA51-6EF5E8A8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F762-6941-4219-8FD5-666920AB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71F3-3CBE-4537-A8F9-2167E1A6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1514-CE3B-49F1-9EF5-52431141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AB3-CB92-43A1-A90A-D46D4606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20AE-156E-48F5-8797-32BCCB5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3D64-1A90-4693-9EB7-844FB775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400C-32C6-48DA-B8BC-1081355A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AEFF-1F34-4B01-B1E7-FB4B71B1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4EF3-51C6-41AC-86FD-94D4B9F4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171-63BD-499D-AD77-865EBA0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4DE-6E05-4D18-AE64-42238FF5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D4B-69F8-47D6-B034-930C44FF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83F-D327-4472-907A-8601EE67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75D-EFA3-4656-BB14-5A28EB9E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A7C-21F7-4EDF-8B3A-5B652548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4D4-68E6-4CCE-8B1F-0A17A5F3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390B-D0D2-43DC-80C2-56066F60F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C92-F52A-458B-9BAE-6D4FCFC54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88120" y="4149720"/>
            <a:ext cx="694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 Angharad yn gwrthod gwisgo sanau gwyrdd neu fely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 Beth yn gwrthod gwisgo sanau glas na gwyrd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Dewisiodd Carl sanau gl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Dewisiodd Danny y lliw wrthododd Beth ac Angharad ei wisg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74760" y="47628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San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80360" y="4724280"/>
            <a:ext cx="1208160" cy="1544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123920" cy="1789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00000" y="112536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’r plant yn nheulu’r Jonesiaid – Angharad, Beth, Carl a Dafydd - yn golchi eu dillad eu hun yn wythno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1916280"/>
            <a:ext cx="622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nt yn treulio gormod o amser yn sortio eu sanau gan ei fod yn anodd penderfynu pwy oedd berchen beth. Maent yn penderfynu, er mwyn arbed amser, y dylai pob un ohonynt wisgo sanau o liw penodol – coch, glas, gwyrdd neu fely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3573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Defnyddiwch y cliwiau i ddarganfod pa blentyn sy’n gwisgo pa li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1:08Z</dcterms:created>
  <dc:creator>Carwyn</dc:creator>
  <dc:description/>
  <dc:language>en-US</dc:language>
  <cp:lastModifiedBy>Carwyn</cp:lastModifiedBy>
  <dcterms:modified xsi:type="dcterms:W3CDTF">2008-12-04T19:50:15Z</dcterms:modified>
  <cp:revision>2</cp:revision>
  <dc:subject/>
  <dc:title>Slide 1</dc:title>
</cp:coreProperties>
</file>